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156-895D-4898-9FD4-D039102E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CD6-7067-4C2A-A3B5-AAA67173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715-32A7-4727-BBBD-C68B3BAE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FE8-3E84-42C0-92D8-7BCF1049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CDA1-0E69-41C3-B9A8-FDBA75AF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8BC-AF27-4AC0-9427-7F1B1399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AB2B-4A89-4E83-8457-91909728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E98E-E614-4D62-BCF6-C0280DC7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05FF-D832-4B95-BFDD-A4DD047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68A-D973-4B27-B3FB-5DB513B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DE18-CD71-4A53-A9EA-240EE78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E32-F0A6-479F-AB18-CB001145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FEC7-2792-4A82-B03A-A63856C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A4F0-87A6-4C8F-A7C1-5F716FA6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842B-1242-4944-A18E-386A4B4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22F9-AFA4-4F15-B585-3A76B9E8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E709-F90D-49DF-8754-65ADB59F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5759-2AD5-4825-B872-1A1B5B83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6C4D-4F8E-4144-9DBB-47F45AD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1C14-EDBE-440C-B481-B951D212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D731-11EC-4A0B-9E7D-D3220A73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1C59-1DBF-4CBB-AD38-AEB9D7D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2B1-7045-4E16-948D-5212DCBE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294A-1EEF-4499-9F5E-9DF23B02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6AFD-CA61-48B9-A2A9-A6F1CD0B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F1FF-76A8-48AA-A084-F38B226E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AB79-0C7C-4CE4-960F-FF40A87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8154-A80D-4EAD-B140-8BCE4AB5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633E-68B3-4CBF-93AB-C780DB67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D142-B5C8-4C3D-A223-2C9D8060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D7867-5597-474B-985F-99382992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59A7-B617-4A3F-A7D9-C9F4E365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3222-3652-46A4-8613-3904E5B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D81-6BF5-4FFA-88D3-54CD7FC7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14157-4659-43A0-B77B-3ED3AEEA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67DF-EA92-48C6-8B3C-C37A9E6E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56BB-7590-4FCA-9AA6-2AC28A29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D63A-0F79-4661-898E-F602624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E8BC-2E6C-460B-A8E6-9E8929B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64EC-AFFD-492F-B11F-D132C91F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6E21C-F10A-4DE2-9B79-D8DEFD06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15CB-DF30-4F0B-8AB2-E24343E1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9001-664A-4FB3-AB7E-A5B94CA3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D5A1-D215-44C9-A39F-43807C28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CB0-F63A-4C36-8966-E971D08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298A6-0789-4BCF-A55A-A66AD575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21852-542C-4AA4-8208-15A10E30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A4D9A-3576-491F-AA03-6CF41BAB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E872-2A79-4309-99E0-A28F930B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226C3-14C4-4A78-B51B-77624E3A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1229-AFE8-4FE2-8767-B9E6D15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7E1B-6AD8-46A5-A39E-BF7B8052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5663-2D8B-4B9C-9DB5-4797F9D7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91DB-9228-48E1-B357-1586B626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4026-C517-416C-91FE-6789D710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36A-AC2F-43D7-9EA5-FC5CA945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A0089-EED4-4BF1-A33E-B88247FD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EACC-F418-4CB4-9F75-6EFF678A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DA4E0-5A63-456B-A741-D2A45013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2B257-831C-4C2D-BEC6-0698A797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99D9-1258-4621-9832-207160A5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1E35-CC33-47B4-B512-D309C7B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841E9-B75A-4E69-A069-F0B09A41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0ED5-2F48-4CD5-95D9-ECA74935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ACEB-C901-4BC4-861A-B4DD86C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C9EF-E95E-42E3-89F6-1F82CB1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4B8-73D4-42BA-B0ED-B56A6A3D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B98E-33AC-454B-BE7A-9263B95D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5960-5491-426D-AE72-8BFDF74D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00783-0770-4977-B883-48C1F5D0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F6051-03B2-4386-AD23-2CF08AAA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78AAF-EF15-4AEC-8D92-71CB1DCA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E3D29-0E35-45C7-B64F-58695B80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8B2B0-0896-4933-AE34-6A0A1851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CA34-25DC-42BB-8358-2ABC2446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3A9E-3CCE-464A-9464-25E22E03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7133F-B19B-4C07-8F9F-207C0C91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993-4A8C-41E5-A827-530FB873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8D9C-4E5F-4C0F-84F9-7A542E4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AD46F-3F67-4B68-9FA7-B3D2ABC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6E8C6-8C0C-410B-BDFA-C1B0BB6B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617E-DBF2-49D7-932E-8B4029F3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4718-808A-4580-AA45-34376136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7DF96-BAFF-4B9E-872C-F2A8D6FF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687DA-ED2E-4396-9BAC-144EC5F2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54E7F-6094-4012-8938-6723818D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0D87-C193-478B-9679-83D47CA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FF21-FE69-4ABA-AFCC-B3A0F3C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7E0-6FDB-4F93-AC5C-5F40A08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075C-5C2C-4920-B7C2-1E53ABAC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C41C-096A-4960-91E9-604AFE5C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6501E-301F-4427-BA06-1367F3D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6915-219D-4CA0-B072-BED3D1A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339A-6847-4AF0-9B4E-01D0AC20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A26E-925B-408C-803D-CA5CF33E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F568A-57F3-4A01-B6C6-6A2E1725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307-8759-4CB9-A440-032336BFB1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989-4A80-4CB4-8110-8C997C1D8A0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34B1-3B6D-4014-84F2-EDA08B1D3E4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7E6F-FC9B-43F2-BD3B-0444047B3B6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8AE8-611B-45BC-9E99-DB5474CBAB0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02A1-94BA-4F5D-8816-2C88AD8343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EFD6-3158-4B3B-8ECF-1F1D702181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3F49-BDBC-4E6C-A8E8-4F8CAE51C08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t in pairs – your preference for part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e a 3x5 card, fold in half (horiz. or vrtcl) making a name card “ten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one side, in large letters, print –            “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HE BO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”, then pr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your nam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smaller letters below th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the card in front of you w/ THE BOSS facing the projection scr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essment: time to follow directions correct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espect for oth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ooking at resume characteristics – not sharing nam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earning experie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do not know” these people – do not be influenced by the names on resum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are THE BOSS, this is YOUR business, YOUR success, YOUR income, YOUR family depend upon good decisions about who works for yo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ssume these potential employees have the necessary specialty knowledge and skills for your job opening – looking at “soft skills” &amp; intangib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uming these potential employees have the necessary specialty knowledge &amp; skills for your job op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storm with your partner other characteristics you would value in an employee for your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 these traits on the back, outside of your “BOSS” t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folders closed w/ papers ins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does it “fall” in the employment proces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is it used by the employ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eening dev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e potential employ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impress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ides “leads” to follow-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r looking for a “good fit” to his/her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 per folder; one minute to view all three, then you will pass the folder 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OAL: impact of the resum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member “safety of Semin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haracteristics of the resume layou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isual impa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uality of the infor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at do you notice, what message does it send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ke note of your “first impression”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ide of “BOSS” tent = resume characteristic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ood/incorporate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- Poor/avoid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32:56Z</dcterms:created>
  <dc:creator>bguenther</dc:creator>
  <dc:description/>
  <dc:language>en-US</dc:language>
  <cp:lastModifiedBy>bguenther</cp:lastModifiedBy>
  <dcterms:modified xsi:type="dcterms:W3CDTF">2009-10-26T12:49:25Z</dcterms:modified>
  <cp:revision>8</cp:revision>
  <dc:subject/>
  <dc:title>Challenge – Session #4</dc:title>
</cp:coreProperties>
</file>